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8C9C-BE22-46B5-BC38-AB6BFBBDD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4DCD-C00D-41A5-A622-35402ADD2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987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6228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808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828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808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828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228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5-</a:t>
            </a:r>
            <a:fld id="{18D594AE-9DFA-48AB-8896-C2A067DBC3FD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5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ity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d Costing an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ity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d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(Peanut Butter)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anut Butter Costing Approach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traditional costing approach which uses broad averages to spread costs among products and services even though the resources are are consumed in a non-uniform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eads to overcosting and undercosting of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48 - 1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114800"/>
            <a:ext cx="7848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cost cross-subsidiz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some products are overcosted, other products are undercos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overcosted products are subsidizing the undercosted produ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ining a Costing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ee things to consider to improve an existing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-cost trac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 the amount of indirect costs by classifying more costs as dir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-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and the number of indirect-cost pools until the costs in each pool are homogeneou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allocation ba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using a different cost-allocation base for each indirect-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sed on what causes the cost pool to chan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5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ity-Based Costing (ABC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finement of an existing cost system which focuses on individual activities as the basic cost obje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activity is an event, task, or unit of work with a specified purpo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 of activities include designing the product or service, set up of machinery, operating machinery, distribution of finished product, administra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41911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undamental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41911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llocations t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Cost Obje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4952880"/>
            <a:ext cx="1752480" cy="1313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1600" indent="-201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5562720"/>
            <a:ext cx="68580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5562720"/>
            <a:ext cx="91440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2 - 15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5181480"/>
            <a:ext cx="175248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 of Activ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5181480"/>
            <a:ext cx="1752840" cy="856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Hierarchi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thinking about splitting indirect costs into homogeneous cost pools considering four cost hierarchies or cost categor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utput unit-level costs:  costs relating to individual units of output such as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tch-level costs:  costs relating to batches of output such as set-up charg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-sustaining costs:  costs relating to the support of a particular product such as product design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ility-sustaining costs:  costs relating to the organization as a who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5 - 15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versus ABC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70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ditional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6 - 16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2346480"/>
            <a:ext cx="259092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direct Costs / DLH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 $2,000,000 / 4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$50 per DL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3962520"/>
            <a:ext cx="2361960" cy="368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In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800600"/>
            <a:ext cx="1218960" cy="64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impl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4800600"/>
            <a:ext cx="1219320" cy="64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066680" y="4343400"/>
            <a:ext cx="60984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4343400"/>
            <a:ext cx="60948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286000" y="5486400"/>
            <a:ext cx="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914400" y="5486400"/>
            <a:ext cx="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869080"/>
            <a:ext cx="2286000" cy="368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733920" y="1295280"/>
            <a:ext cx="5410080" cy="4957920"/>
            <a:chOff x="3733920" y="1295280"/>
            <a:chExt cx="5410080" cy="4957920"/>
          </a:xfrm>
        </p:grpSpPr>
        <p:sp>
          <p:nvSpPr>
            <p:cNvPr id="82" name=""/>
            <p:cNvSpPr/>
            <p:nvPr/>
          </p:nvSpPr>
          <p:spPr>
            <a:xfrm>
              <a:off x="4800600" y="1295280"/>
              <a:ext cx="3429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BC Costing System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91120" y="3809880"/>
              <a:ext cx="167616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4816440"/>
              <a:ext cx="12193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imp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Len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24480" y="4816440"/>
              <a:ext cx="12193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Len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10080" y="4495680"/>
              <a:ext cx="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4495680"/>
              <a:ext cx="762120" cy="228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6781680" y="5502240"/>
              <a:ext cx="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5410080" y="5502240"/>
              <a:ext cx="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29200" y="5884920"/>
              <a:ext cx="2286000" cy="368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Direct Cost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33920" y="2057400"/>
              <a:ext cx="2590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s / DLH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 $500,000 / 4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$12.50 per DLH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00800" y="2057400"/>
              <a:ext cx="2743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s / MH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 $1,500,000 / 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$150 per MH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00800" y="3809880"/>
              <a:ext cx="16765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10280" y="4495680"/>
              <a:ext cx="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5714640" y="4495680"/>
              <a:ext cx="685800" cy="228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s of ABC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48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the use of activity-based management (ABM) within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M focuses management’s attention on the activities that cause costs to b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ults i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tter product and pricing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d 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ing activities more efficient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liminating activities that do not add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ing product desig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ntually leads to improved operations and processes, satisfied customers, and increased prof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1 -15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ll-Tale” Signs of Need to Consider AB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gnificant amounts of costs are allocated using one or two 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 or most of the costs are identified as output unit-leve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s make diverse demands on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s show little profit while secondary products show large prof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lex products appear to be profitable while simple products appear to be losing mone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s and accounting staff disagree about the costs of manufacturing and marketing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4 -15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wing Interest in Activity-Based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474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to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%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1349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re accurate cost information for product pric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re accurate profit analysi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produ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custom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proces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4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3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ed performance measur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3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ed insight into cost causation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7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urce:  Armitage, H., and R. Nicholson, “Activity-Based Costing: A Survey of Canadian Practices”, supplement to CMA Magazine (1993)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676520"/>
            <a:ext cx="80769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1:59:26Z</dcterms:created>
  <dc:creator>User</dc:creator>
  <dc:description/>
  <dc:language>en-US</dc:language>
  <cp:lastModifiedBy>John Moore</cp:lastModifiedBy>
  <cp:lastPrinted>1999-06-03T12:08:02Z</cp:lastPrinted>
  <dcterms:modified xsi:type="dcterms:W3CDTF">2003-03-22T13:11:26Z</dcterms:modified>
  <cp:revision>9</cp:revision>
  <dc:subject/>
  <dc:title>No Slide Title</dc:title>
</cp:coreProperties>
</file>